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2.png" ContentType="image/png"/>
  <Override PartName="/ppt/media/image19.gif" ContentType="image/gif"/>
  <Override PartName="/ppt/media/image21.png" ContentType="image/png"/>
  <Override PartName="/ppt/media/image18.gif" ContentType="image/gif"/>
  <Override PartName="/ppt/media/image23.png" ContentType="image/png"/>
  <Override PartName="/ppt/media/image20.gif" ContentType="image/gif"/>
  <Override PartName="/ppt/media/image16.jpeg" ContentType="image/jpeg"/>
  <Override PartName="/ppt/media/image24.jpeg" ContentType="image/jpeg"/>
  <Override PartName="/ppt/media/image15.png" ContentType="image/png"/>
  <Override PartName="/ppt/media/image1.wmf" ContentType="image/x-wmf"/>
  <Override PartName="/ppt/media/image9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4BB6-AEA0-4EAE-A4CC-9320020FD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9861-2F39-416A-93BD-055E85DCC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1858-79A2-4023-82F9-484A04355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0DB9-5845-4255-BC40-AE6A0373C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A229-4C8E-49FF-9D10-5F911D7AD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31A6-2393-469C-A1B0-14A715DE9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8FEF-B8BD-4814-A327-9EDC3E34E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6D14-8AAA-4A24-B2A6-8992F5CFB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BB51-8E89-46CC-8D33-216E26E5E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4B2E-2F45-4E4F-8812-1D555AC76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E266-093A-4E58-9D6D-A1B79E697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9256-6D1E-4090-81FE-0193E2E6C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04AE-AD79-401B-9973-0E3D334F0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5490-F93F-42FA-A79F-3726CE525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6FB1-DE5F-438E-B4DC-ED68111CF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3F35-6742-49D2-994B-FDDF547C0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01E0-4BC1-43E8-8C7B-B21145CFF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3C71-9055-4413-9540-EF499D09C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2BDB-F94B-41B8-8BFF-7CFEF4D65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24F0-1974-4887-9E89-8270D890B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878B-438F-4318-8EFB-9F5F256C2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8129-D1B5-4A07-9ED0-3439B4038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195A-2028-40E6-BE83-09C34A90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81B1-8845-450A-A2F4-3612CDC5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C711-256A-459A-BD2E-1C5203876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76C5-9575-4050-8695-831AE9461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D760-6009-49CF-B275-2BDCB3D5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C662-8197-4E58-AAEF-F46460C1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361A-97E4-466B-934B-129B7C17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9E82-CC25-433F-A29E-02C6B53C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AF14-B970-42E0-BBB5-A56770D6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9BD3-E525-40FB-A926-E6089DD4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5831-653F-403C-A674-05BBAE56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FCCC-C2C3-4B92-A64E-C5B8DAA0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dbff"/>
            </a:gs>
            <a:gs pos="100000">
              <a:srgbClr val="0e5d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8B05-9512-4199-A4AA-A2D15576B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ivescience.com/37183-the-earth-harp-making-architecture-and-nature-into-an-instrument-video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youtube.com/watch?v=EXxcwFfovkc" TargetMode="External"/><Relationship Id="rId3" Type="http://schemas.openxmlformats.org/officeDocument/2006/relationships/hyperlink" Target="http://www.youtube.com/watch?v=imoxDcn2Sgo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hyperlink" Target="http://youtu.be/Y5KaeCZ_AaY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1371600" y="4038480"/>
            <a:ext cx="6350040" cy="25401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304920" y="8380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ARACTERISTICS OF WAV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0" y="2895480"/>
            <a:ext cx="9144000" cy="764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pter 15, Section 2, pp 514-5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Wave_period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.  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295280" y="380880"/>
            <a:ext cx="419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0f52"/>
                </a:solidFill>
                <a:latin typeface="Arial"/>
              </a:rPr>
              <a:t>FREQUENC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457200" y="13716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 of complete waves per unit of time (waves/seco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457200" y="26668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= _________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80880" y="4267080"/>
            <a:ext cx="8229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es one color of ______ from another, or whether or not a _______ is aud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981080" y="2666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0f52"/>
                </a:solidFill>
                <a:latin typeface="Arial"/>
              </a:rPr>
              <a:t>Hertz (H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5562720" y="4724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0f52"/>
                </a:solidFill>
                <a:latin typeface="Arial"/>
              </a:rPr>
              <a:t>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5410080" y="42670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0f5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f0f52"/>
                </a:solidFill>
                <a:latin typeface="Arial"/>
              </a:rPr>
              <a:t>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457200" y="35053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Hz = 1 vibration / 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5" descr="u10l2b4"/>
          <p:cNvPicPr/>
          <p:nvPr/>
        </p:nvPicPr>
        <p:blipFill>
          <a:blip r:embed="rId1"/>
          <a:stretch/>
        </p:blipFill>
        <p:spPr>
          <a:xfrm>
            <a:off x="5334120" y="2057400"/>
            <a:ext cx="3504960" cy="191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7" name="Rectangle 1"/>
          <p:cNvSpPr/>
          <p:nvPr/>
        </p:nvSpPr>
        <p:spPr>
          <a:xfrm>
            <a:off x="2819520" y="5486400"/>
            <a:ext cx="457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quency =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 (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quency vs. Peri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95280" y="1006560"/>
          <a:ext cx="6858000" cy="312408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</a:t>
                      </a: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ofte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omething happ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im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t takes something to happen (start to finis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at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uant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im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uant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cles/seco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s/cyc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Rectangle 1"/>
          <p:cNvSpPr/>
          <p:nvPr/>
        </p:nvSpPr>
        <p:spPr>
          <a:xfrm>
            <a:off x="1143000" y="42670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f the woodpecker drums upon a tree 2 times in one second, the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equency is 2 H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Each drum must endure for one-half a second, so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riod is 0.5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6248520" y="4343400"/>
            <a:ext cx="1436400" cy="226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75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ating along…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6360" y="1295280"/>
            <a:ext cx="705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you are floating on an inner tube in the ocean. A wave crest passes the inner tube every 2 seco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otal time for one complete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/oscillation to occu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: f = _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      f =  1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        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5 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5"/>
          <p:cNvSpPr/>
          <p:nvPr/>
        </p:nvSpPr>
        <p:spPr>
          <a:xfrm>
            <a:off x="434340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685800" y="4876920"/>
            <a:ext cx="1905120" cy="533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9" descr=""/>
          <p:cNvPicPr/>
          <p:nvPr/>
        </p:nvPicPr>
        <p:blipFill>
          <a:blip r:embed="rId1"/>
          <a:stretch/>
        </p:blipFill>
        <p:spPr>
          <a:xfrm>
            <a:off x="6172200" y="2209680"/>
            <a:ext cx="2438280" cy="443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visible_spectrum_waves_big"/>
          <p:cNvPicPr/>
          <p:nvPr/>
        </p:nvPicPr>
        <p:blipFill>
          <a:blip r:embed="rId1"/>
          <a:stretch/>
        </p:blipFill>
        <p:spPr>
          <a:xfrm>
            <a:off x="762120" y="2666880"/>
            <a:ext cx="7619760" cy="42325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7"/>
          <p:cNvSpPr/>
          <p:nvPr/>
        </p:nvSpPr>
        <p:spPr>
          <a:xfrm>
            <a:off x="152280" y="22860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colo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52280" y="91440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same medium, light travels at the _____ speed (300,000,000 m/s or 186,000 mph).  What makes the colors different?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7620120" y="91440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0f52"/>
                </a:solidFill>
                <a:latin typeface="Arial"/>
              </a:rPr>
              <a:t>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6477120" y="1828800"/>
            <a:ext cx="266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0f52"/>
                </a:solidFill>
                <a:latin typeface="Arial"/>
              </a:rPr>
              <a:t>frequenci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frequency_tones"/>
          <p:cNvPicPr/>
          <p:nvPr/>
        </p:nvPicPr>
        <p:blipFill>
          <a:blip r:embed="rId1"/>
          <a:stretch/>
        </p:blipFill>
        <p:spPr>
          <a:xfrm>
            <a:off x="4648320" y="3200400"/>
            <a:ext cx="4343400" cy="34704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609480" y="25909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0f52"/>
                </a:solidFill>
                <a:latin typeface="Arial"/>
              </a:rPr>
              <a:t>the frequenci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152280" y="3733920"/>
            <a:ext cx="426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Humans hear from 20-20,000 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quito ring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533520" y="16002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0f52"/>
                </a:solidFill>
                <a:latin typeface="Arial"/>
              </a:rPr>
              <a:t>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sound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same medium, sound travels at the ______ speed.  What makes differently pitched (high/low) sounds? 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freq-wavelength"/>
          <p:cNvPicPr/>
          <p:nvPr/>
        </p:nvPicPr>
        <p:blipFill>
          <a:blip r:embed="rId1"/>
          <a:stretch/>
        </p:blipFill>
        <p:spPr>
          <a:xfrm>
            <a:off x="3962520" y="380880"/>
            <a:ext cx="4952880" cy="28908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8"/>
          <p:cNvSpPr/>
          <p:nvPr/>
        </p:nvSpPr>
        <p:spPr>
          <a:xfrm>
            <a:off x="228600" y="304920"/>
            <a:ext cx="3886200" cy="32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wo waves moving at the SAME speed, as </a:t>
            </a:r>
            <a:r>
              <a:rPr b="0" lang="en-US" sz="4400" spc="-1" strike="noStrike">
                <a:solidFill>
                  <a:srgbClr val="1f0f52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CREASES, frequency 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304920" y="28954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1656"/>
                </a:solidFill>
                <a:latin typeface="Arial"/>
              </a:rPr>
              <a:t>DE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152280" y="388620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ddition, as the period of a wave decreases, the frequency _____________ (INVERSE relationsh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4952880" y="44197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1656"/>
                </a:solidFill>
                <a:latin typeface="Arial"/>
              </a:rPr>
              <a:t>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3298680" y="60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20018610"/>
          <p:cNvPicPr/>
          <p:nvPr/>
        </p:nvPicPr>
        <p:blipFill>
          <a:blip r:embed="rId1"/>
          <a:stretch/>
        </p:blipFill>
        <p:spPr>
          <a:xfrm>
            <a:off x="0" y="3502080"/>
            <a:ext cx="9144000" cy="33559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228600" y="228600"/>
            <a:ext cx="86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ve Spe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0" y="1219320"/>
            <a:ext cx="9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peed of a wave depends on the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7162920" y="12193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c5d"/>
                </a:solidFill>
                <a:latin typeface="Arial"/>
              </a:rPr>
              <a:t>ME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0" y="1981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given medium, the speed of a wave is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228600" y="24382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c5d"/>
                </a:solidFill>
                <a:latin typeface="Arial"/>
              </a:rPr>
              <a:t>CON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3276720" y="3124080"/>
            <a:ext cx="220968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500 m/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6477120" y="3124080"/>
            <a:ext cx="182880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40 m/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304920" y="3124080"/>
            <a:ext cx="220968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,800 m/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1676520" y="6278400"/>
            <a:ext cx="586728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ES SPEED DIFF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peed of a wave is equal to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avelengt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ided by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erio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requenc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lied by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aveleng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memb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peed of a moving object is found by dividing the ________ the object travels by the ____ it takes the object to travel that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d = distance /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 = d / 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981160" y="3048120"/>
            <a:ext cx="16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1931400" y="3581280"/>
            <a:ext cx="106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wave speed = wavelength ÷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ave speed is th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invers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of frequ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ividing by the period is equivalent to multiplying by the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eed of a w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ls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calcula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e speed = frequency × wave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1600200" y="6094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v = </a:t>
            </a:r>
            <a:r>
              <a:rPr b="0" i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3048120" y="52578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v = f x 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Isosceles Triangle 1"/>
          <p:cNvSpPr/>
          <p:nvPr/>
        </p:nvSpPr>
        <p:spPr>
          <a:xfrm>
            <a:off x="4343400" y="762120"/>
            <a:ext cx="1676520" cy="1295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8"/>
          <p:cNvSpPr/>
          <p:nvPr/>
        </p:nvSpPr>
        <p:spPr>
          <a:xfrm>
            <a:off x="4762440" y="140976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0"/>
          <p:cNvSpPr/>
          <p:nvPr/>
        </p:nvSpPr>
        <p:spPr>
          <a:xfrm flipV="1">
            <a:off x="5181480" y="13712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5"/>
          <p:cNvSpPr/>
          <p:nvPr/>
        </p:nvSpPr>
        <p:spPr>
          <a:xfrm>
            <a:off x="457200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7"/>
          <p:cNvSpPr/>
          <p:nvPr/>
        </p:nvSpPr>
        <p:spPr>
          <a:xfrm>
            <a:off x="4876920" y="9144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8"/>
          <p:cNvSpPr/>
          <p:nvPr/>
        </p:nvSpPr>
        <p:spPr>
          <a:xfrm>
            <a:off x="51814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Isosceles Triangle 20"/>
          <p:cNvSpPr/>
          <p:nvPr/>
        </p:nvSpPr>
        <p:spPr>
          <a:xfrm>
            <a:off x="5638680" y="5334120"/>
            <a:ext cx="1676520" cy="1143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22"/>
          <p:cNvSpPr/>
          <p:nvPr/>
        </p:nvSpPr>
        <p:spPr>
          <a:xfrm>
            <a:off x="6058080" y="590544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24"/>
          <p:cNvSpPr/>
          <p:nvPr/>
        </p:nvSpPr>
        <p:spPr>
          <a:xfrm>
            <a:off x="6477120" y="5943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7"/>
          <p:cNvSpPr/>
          <p:nvPr/>
        </p:nvSpPr>
        <p:spPr>
          <a:xfrm>
            <a:off x="56386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9"/>
          <p:cNvSpPr/>
          <p:nvPr/>
        </p:nvSpPr>
        <p:spPr>
          <a:xfrm>
            <a:off x="6019920" y="5410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0"/>
          <p:cNvSpPr/>
          <p:nvPr/>
        </p:nvSpPr>
        <p:spPr>
          <a:xfrm>
            <a:off x="6477120" y="5943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.  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3962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s the amount of __________ carried by the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762120" y="49528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447920" y="5335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b1a08"/>
                </a:solidFill>
                <a:latin typeface="Arial"/>
              </a:rPr>
              <a:t>AMPLIT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228600" y="152388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ximum movement of a wave from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304920" y="274320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d from rest to ________ (top of the          wave) or rest to __________ (botto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533520" y="19810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0f52"/>
                </a:solidFill>
                <a:latin typeface="Arial"/>
              </a:rPr>
              <a:t>R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4724280" y="26668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0f52"/>
                </a:solidFill>
                <a:latin typeface="Arial"/>
              </a:rPr>
              <a:t>CR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3352680" y="32004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0f52"/>
                </a:solidFill>
                <a:latin typeface="Arial"/>
              </a:rPr>
              <a:t>TROU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5562720" y="38862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0f52"/>
                </a:solidFill>
                <a:latin typeface="Arial"/>
              </a:rPr>
              <a:t>ENER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9"/>
          <p:cNvSpPr/>
          <p:nvPr/>
        </p:nvSpPr>
        <p:spPr>
          <a:xfrm>
            <a:off x="762120" y="502920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A sound wave with more energy and greater amplitude is 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4572000" y="5486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1656"/>
                </a:solidFill>
                <a:latin typeface="Arial"/>
              </a:rPr>
              <a:t>LOU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6183720" y="609480"/>
            <a:ext cx="21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e3697"/>
                </a:solidFill>
                <a:uFillTx/>
                <a:latin typeface="Arial"/>
                <a:hlinkClick r:id="rId1"/>
              </a:rPr>
              <a:t>Earth Ha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ring of a piano that produces the note middle C vibrates with a frequency of ____ Hz. If the sound waves produced by this string have a wavelength in air of ____ m, what is the speed of the sound wa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ven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know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requency, f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262 Hz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wave speed, v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? m/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wavelength, λ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1.30 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"/>
          <p:cNvSpPr/>
          <p:nvPr/>
        </p:nvSpPr>
        <p:spPr>
          <a:xfrm>
            <a:off x="762120" y="18288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6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691920" y="281952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.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33520" y="3124080"/>
            <a:ext cx="77724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= 262 Hz x 1.30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= 341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2895480" y="19051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v = f x 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"/>
          <p:cNvSpPr/>
          <p:nvPr/>
        </p:nvSpPr>
        <p:spPr>
          <a:xfrm>
            <a:off x="380880" y="8380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: v= ?        f= 262 Hz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λ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30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457200" y="4800600"/>
            <a:ext cx="2819520" cy="99072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3298680" y="60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304920" y="22860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Doppler Effec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0" y="10666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bserved change in the ____________ of a wave when the source of the wave or the observer is 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2286000" y="19810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5257800" y="10666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9" descr="doppler_rest"/>
          <p:cNvPicPr/>
          <p:nvPr/>
        </p:nvPicPr>
        <p:blipFill>
          <a:blip r:embed="rId1"/>
          <a:stretch/>
        </p:blipFill>
        <p:spPr>
          <a:xfrm>
            <a:off x="1981080" y="285768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3298680" y="60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doppler_a_200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doppler_t_200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298680" y="60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2940120"/>
          </a:xfrm>
          <a:prstGeom prst="rect">
            <a:avLst/>
          </a:prstGeom>
          <a:ln w="0">
            <a:noFill/>
          </a:ln>
        </p:spPr>
      </p:pic>
      <p:sp>
        <p:nvSpPr>
          <p:cNvPr id="185" name="TextBox 1"/>
          <p:cNvSpPr/>
          <p:nvPr/>
        </p:nvSpPr>
        <p:spPr>
          <a:xfrm>
            <a:off x="1828800" y="5335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ae3697"/>
                </a:solidFill>
                <a:uFillTx/>
                <a:latin typeface="Arial"/>
                <a:hlinkClick r:id="rId2"/>
              </a:rPr>
              <a:t>Train Horn Dopp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"/>
          <p:cNvSpPr/>
          <p:nvPr/>
        </p:nvSpPr>
        <p:spPr>
          <a:xfrm>
            <a:off x="2590920" y="54100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ae3697"/>
                </a:solidFill>
                <a:uFillTx/>
                <a:latin typeface="Arial"/>
                <a:hlinkClick r:id="rId3"/>
              </a:rPr>
              <a:t>Fire Engine Siren Dopp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3298680" y="60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2819520" y="5638680"/>
            <a:ext cx="3352680" cy="764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UESHI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2819520" y="380880"/>
            <a:ext cx="3047760" cy="764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DSHI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800px-Redshift_blueshift"/>
          <p:cNvPicPr/>
          <p:nvPr/>
        </p:nvPicPr>
        <p:blipFill>
          <a:blip r:embed="rId1"/>
          <a:stretch/>
        </p:blipFill>
        <p:spPr>
          <a:xfrm>
            <a:off x="228600" y="762120"/>
            <a:ext cx="8305920" cy="51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doppler2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2971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redBlueShift"/>
          <p:cNvPicPr/>
          <p:nvPr/>
        </p:nvPicPr>
        <p:blipFill>
          <a:blip r:embed="rId2"/>
          <a:stretch/>
        </p:blipFill>
        <p:spPr>
          <a:xfrm>
            <a:off x="1219320" y="3581280"/>
            <a:ext cx="6476760" cy="238284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"/>
          <p:cNvSpPr/>
          <p:nvPr/>
        </p:nvSpPr>
        <p:spPr>
          <a:xfrm>
            <a:off x="3124080" y="2971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e3697"/>
                </a:solidFill>
                <a:uFillTx/>
                <a:latin typeface="Arial"/>
                <a:hlinkClick r:id="rId3"/>
              </a:rPr>
              <a:t>Doppler Big B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FG03_14"/>
          <p:cNvPicPr/>
          <p:nvPr/>
        </p:nvPicPr>
        <p:blipFill>
          <a:blip r:embed="rId1"/>
          <a:stretch/>
        </p:blipFill>
        <p:spPr>
          <a:xfrm>
            <a:off x="228600" y="-3240"/>
            <a:ext cx="876312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wave speed practic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295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e average wavelength in a series of ocean waves is _____ m. A wave crest arrives at the shore on average every ____ s, so the frequency is ______ Hz. What is the averag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w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1828800" y="3886200"/>
            <a:ext cx="5334120" cy="265572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/>
          <p:cNvSpPr/>
          <p:nvPr/>
        </p:nvSpPr>
        <p:spPr>
          <a:xfrm>
            <a:off x="3657600" y="17524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5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5"/>
          <p:cNvSpPr/>
          <p:nvPr/>
        </p:nvSpPr>
        <p:spPr>
          <a:xfrm>
            <a:off x="762120" y="27432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0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5715000" y="27432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.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68580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Green light has a wavelength of __________ m. The speed of light is _________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/s. Calculat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requen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green light waves with this wavel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209680" y="2743200"/>
            <a:ext cx="4753080" cy="312408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"/>
          <p:cNvSpPr/>
          <p:nvPr/>
        </p:nvSpPr>
        <p:spPr>
          <a:xfrm>
            <a:off x="762120" y="838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.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762120" y="137160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amplitude"/>
          <p:cNvPicPr/>
          <p:nvPr/>
        </p:nvPicPr>
        <p:blipFill>
          <a:blip r:embed="rId1"/>
          <a:stretch/>
        </p:blipFill>
        <p:spPr>
          <a:xfrm>
            <a:off x="609480" y="0"/>
            <a:ext cx="8001000" cy="6840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 rot="16200000">
            <a:off x="214560" y="3823920"/>
            <a:ext cx="259056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PL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85800" y="3808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The speed of sound in air is about _____ m/s. What is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sound wave with a frequency of _____ Hz (on a piano, the A below middle C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" descr=""/>
          <p:cNvPicPr/>
          <p:nvPr/>
        </p:nvPicPr>
        <p:blipFill>
          <a:blip r:embed="rId1"/>
          <a:stretch/>
        </p:blipFill>
        <p:spPr>
          <a:xfrm>
            <a:off x="2438280" y="2743200"/>
            <a:ext cx="4330800" cy="34164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3"/>
          <p:cNvSpPr/>
          <p:nvPr/>
        </p:nvSpPr>
        <p:spPr>
          <a:xfrm>
            <a:off x="838080" y="8380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4"/>
          <p:cNvSpPr/>
          <p:nvPr/>
        </p:nvSpPr>
        <p:spPr>
          <a:xfrm>
            <a:off x="6705720" y="12952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380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Calculate the frequency of microwaves that have a wavelength of _______ m and a speed of _________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/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" descr=""/>
          <p:cNvPicPr/>
          <p:nvPr/>
        </p:nvPicPr>
        <p:blipFill>
          <a:blip r:embed="rId1"/>
          <a:stretch/>
        </p:blipFill>
        <p:spPr>
          <a:xfrm>
            <a:off x="2438280" y="2514600"/>
            <a:ext cx="4102200" cy="34099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5638680" y="8380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.008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4"/>
          <p:cNvSpPr/>
          <p:nvPr/>
        </p:nvSpPr>
        <p:spPr>
          <a:xfrm>
            <a:off x="2819520" y="1295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609480" y="48769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seismograph"/>
          <p:cNvPicPr/>
          <p:nvPr/>
        </p:nvPicPr>
        <p:blipFill>
          <a:blip r:embed="rId1"/>
          <a:stretch/>
        </p:blipFill>
        <p:spPr>
          <a:xfrm>
            <a:off x="609480" y="3276720"/>
            <a:ext cx="4267440" cy="33987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5"/>
          <p:cNvSpPr/>
          <p:nvPr/>
        </p:nvSpPr>
        <p:spPr>
          <a:xfrm>
            <a:off x="304920" y="3808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nsity of an earthquake is determined by the _____________ of the original disturbance and w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4267080" y="83808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0f52"/>
                </a:solidFill>
                <a:latin typeface="Arial"/>
              </a:rPr>
              <a:t>AMPLIT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8" descr="seismometer"/>
          <p:cNvPicPr/>
          <p:nvPr/>
        </p:nvPicPr>
        <p:blipFill>
          <a:blip r:embed="rId2"/>
          <a:stretch/>
        </p:blipFill>
        <p:spPr>
          <a:xfrm>
            <a:off x="5784840" y="2590920"/>
            <a:ext cx="3206880" cy="41590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9"/>
          <p:cNvSpPr/>
          <p:nvPr/>
        </p:nvSpPr>
        <p:spPr>
          <a:xfrm>
            <a:off x="301320" y="1981080"/>
            <a:ext cx="626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quake energy measured by a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0"/>
          <p:cNvSpPr/>
          <p:nvPr/>
        </p:nvSpPr>
        <p:spPr>
          <a:xfrm>
            <a:off x="609480" y="25909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0f52"/>
                </a:solidFill>
                <a:latin typeface="Arial"/>
              </a:rPr>
              <a:t>SEISMO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8" descr="seismograph"/>
          <p:cNvPicPr/>
          <p:nvPr/>
        </p:nvPicPr>
        <p:blipFill>
          <a:blip r:embed="rId1"/>
          <a:srcRect l="17955" t="0" r="0" b="0"/>
          <a:stretch/>
        </p:blipFill>
        <p:spPr>
          <a:xfrm>
            <a:off x="457200" y="-31680"/>
            <a:ext cx="86868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53352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tance between two equivalent parts of a wav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from ________ to 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waveleng"/>
          <p:cNvPicPr/>
          <p:nvPr/>
        </p:nvPicPr>
        <p:blipFill>
          <a:blip r:embed="rId1"/>
          <a:stretch/>
        </p:blipFill>
        <p:spPr>
          <a:xfrm>
            <a:off x="3657600" y="3352680"/>
            <a:ext cx="5334120" cy="3330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9"/>
          <p:cNvSpPr/>
          <p:nvPr/>
        </p:nvSpPr>
        <p:spPr>
          <a:xfrm>
            <a:off x="2743200" y="2286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0f52"/>
                </a:solidFill>
                <a:latin typeface="Arial"/>
              </a:rPr>
              <a:t>C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457200" y="3808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. 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1295280" y="38088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0f52"/>
                </a:solidFill>
                <a:latin typeface="Arial"/>
              </a:rPr>
              <a:t>WAVELENG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5181480" y="2286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0f52"/>
                </a:solidFill>
                <a:latin typeface="Arial"/>
              </a:rPr>
              <a:t>C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533520" y="3048120"/>
            <a:ext cx="335268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 = ___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reek letter _______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2743200" y="297180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0f52"/>
                </a:solidFill>
                <a:latin typeface="Symbol"/>
                <a:ea typeface="Symbol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9"/>
          <p:cNvSpPr/>
          <p:nvPr/>
        </p:nvSpPr>
        <p:spPr>
          <a:xfrm>
            <a:off x="533520" y="41148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0f52"/>
                </a:solidFill>
                <a:latin typeface="Arial"/>
              </a:rPr>
              <a:t>Lamb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609480" y="48769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= 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2133720" y="48769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0f52"/>
                </a:solidFill>
                <a:latin typeface="Arial"/>
              </a:rPr>
              <a:t>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wavelength"/>
          <p:cNvPicPr/>
          <p:nvPr/>
        </p:nvPicPr>
        <p:blipFill>
          <a:blip r:embed="rId1"/>
          <a:stretch/>
        </p:blipFill>
        <p:spPr>
          <a:xfrm>
            <a:off x="0" y="0"/>
            <a:ext cx="9144000" cy="55371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0" y="5562720"/>
            <a:ext cx="91440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er wavelengths carry _______ energy than longer wavelengt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5181480" y="55627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0f52"/>
                </a:solidFill>
                <a:latin typeface="Arial"/>
              </a:rPr>
              <a:t>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sound_tran_long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457200" y="3808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.  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295280" y="380880"/>
            <a:ext cx="42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0f52"/>
                </a:solidFill>
                <a:latin typeface="Arial"/>
              </a:rPr>
              <a:t>PERI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380880" y="137160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ime (seconds) required for one full _____________ of a wave to pass a certain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250px-Swimming-pool"/>
          <p:cNvPicPr/>
          <p:nvPr/>
        </p:nvPicPr>
        <p:blipFill>
          <a:blip r:embed="rId1"/>
          <a:stretch/>
        </p:blipFill>
        <p:spPr>
          <a:xfrm>
            <a:off x="4648320" y="2819520"/>
            <a:ext cx="4343400" cy="3267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380880" y="3581280"/>
            <a:ext cx="441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Time between crests in a wave p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457200" y="18288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0f52"/>
                </a:solidFill>
                <a:latin typeface="Arial"/>
              </a:rPr>
              <a:t>WAVE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3:55:56Z</dcterms:created>
  <dc:creator>Sewatsky</dc:creator>
  <dc:description/>
  <dc:language>en-US</dc:language>
  <cp:lastModifiedBy>Jillian Boisse</cp:lastModifiedBy>
  <cp:lastPrinted>2008-04-30T02:37:44Z</cp:lastPrinted>
  <dcterms:modified xsi:type="dcterms:W3CDTF">2014-03-26T14:51:45Z</dcterms:modified>
  <cp:revision>41</cp:revision>
  <dc:subject/>
  <dc:title>PowerPoint Presentation</dc:title>
</cp:coreProperties>
</file>